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0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D37-39D2-4BD8-8369-9BA3C9F7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E43-1BCF-403B-AB4C-FE9C9504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83D-6E9F-4D11-A878-460847BC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1DD-9921-4610-986A-1BD4AE3A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E974-E32B-474C-B1D4-83868155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061-152E-437D-ABFD-2F0B3BEA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E91-8466-436A-B72F-D324193B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651-E820-408A-A5C2-F15DC6C3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DCE-CA60-4402-B93E-C7F76865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5C3-2525-40AA-925F-CB3F909F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E74-036C-4597-8706-562DF849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F71-BBBD-45B1-9F3F-5125DE1E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36C8-E926-4673-8BE8-B5CFD0A315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9" descr="MC900303031.JPG"/>
          <p:cNvPicPr/>
          <p:nvPr/>
        </p:nvPicPr>
        <p:blipFill>
          <a:blip r:embed="rId1"/>
          <a:stretch/>
        </p:blipFill>
        <p:spPr>
          <a:xfrm>
            <a:off x="5486400" y="1341360"/>
            <a:ext cx="3657600" cy="3651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6036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tkanie współfinansowane ze środków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i Europejskiej w ramach Europejskiego Funduszu Społeczne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-360" y="907560"/>
            <a:ext cx="8893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84807"/>
                </a:solidFill>
                <a:latin typeface="Calibri"/>
              </a:rPr>
              <a:t>MODEL ZARZĄDZANIA</a:t>
            </a:r>
            <a:br>
              <a:rPr sz="4400"/>
            </a:br>
            <a:r>
              <a:rPr b="1" lang="pl-PL" sz="4400" spc="-1" strike="noStrike">
                <a:solidFill>
                  <a:srgbClr val="984807"/>
                </a:solidFill>
                <a:latin typeface="Calibri"/>
              </a:rPr>
              <a:t>DZIAŁANIAMI UPOWSZECHNIAJĄCYMI I WŁĄCZAJĄCY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84807"/>
                </a:solidFill>
                <a:latin typeface="Calibri"/>
              </a:rPr>
              <a:t>GRUPA ROBOCZA DS. MAINSTREAMIN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560" y="1197000"/>
            <a:ext cx="8713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ZAŁOŻE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mbria"/>
              </a:rPr>
              <a:t>Członkowie Grupy – członkowie KST gotowi do zaangażow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mbria"/>
              </a:rPr>
              <a:t>Liczebność Grupy nie powinna być zbyt duż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mbria"/>
              </a:rPr>
              <a:t>Skład Grupy: reprezentacja środowisk mogących odegrać istotną rolę w procesie włącz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mbria"/>
              </a:rPr>
              <a:t>Skład Grupy: przedstawiciele sektorów występujących w składzie KST, np. przedstawiciele IP/IP2, ngo, beneficjenci it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mbria"/>
              </a:rPr>
              <a:t>Częstotliwość spotkań: kilkakrotnie w ciągu roku poza posiedzeniami K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az 3" descr="MC900442096.WMF"/>
          <p:cNvPicPr/>
          <p:nvPr/>
        </p:nvPicPr>
        <p:blipFill>
          <a:blip r:embed="rId1"/>
          <a:stretch/>
        </p:blipFill>
        <p:spPr>
          <a:xfrm>
            <a:off x="6659640" y="4365720"/>
            <a:ext cx="23652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84807"/>
                </a:solidFill>
                <a:latin typeface="Calibri"/>
              </a:rPr>
              <a:t>GRUPA ROBOCZA DS. MAINSTREAMIN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0328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ZAKRES PRA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mbria"/>
              </a:rPr>
              <a:t>analiza i uszczegółowienie zapisów strategii upowszechniania i mainstreamingu opracowanych przez beneficjentó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mbria"/>
              </a:rPr>
              <a:t>wsparcie i doradztwo dla beneficjentów w zakresie doprecyzowania planów działań włączający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mbria"/>
              </a:rPr>
              <a:t>wskazanie beneficjentom decydentów oraz ułatwiania kontaktu z nim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mbria"/>
              </a:rPr>
              <a:t>……………………………………</a:t>
            </a:r>
            <a:r>
              <a:rPr b="0" lang="pl-PL" sz="1600" spc="-1" strike="noStrike">
                <a:solidFill>
                  <a:srgbClr val="000000"/>
                </a:solidFill>
                <a:latin typeface="Cambria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az 3" descr="MH900438498.JPG"/>
          <p:cNvPicPr/>
          <p:nvPr/>
        </p:nvPicPr>
        <p:blipFill>
          <a:blip r:embed="rId1"/>
          <a:stretch/>
        </p:blipFill>
        <p:spPr>
          <a:xfrm>
            <a:off x="0" y="184464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raz 6" descr="MC910215892.JPG"/>
          <p:cNvPicPr/>
          <p:nvPr/>
        </p:nvPicPr>
        <p:blipFill>
          <a:blip r:embed="rId1"/>
          <a:stretch/>
        </p:blipFill>
        <p:spPr>
          <a:xfrm>
            <a:off x="1116000" y="2565360"/>
            <a:ext cx="6672240" cy="3635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84807"/>
                </a:solidFill>
                <a:latin typeface="Calibri"/>
              </a:rPr>
              <a:t>KIW A IP/IP2 – LINIA DEMARKACYJ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84807"/>
                </a:solidFill>
                <a:latin typeface="Calibri"/>
              </a:rPr>
              <a:t>KI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000" y="19890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Działania na rzecz IP/IP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Działania tzw. własne na rzecz konkretnych projektów/produktów finalny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84807"/>
                </a:solidFill>
                <a:latin typeface="Calibri"/>
              </a:rPr>
              <a:t>IP/IP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00360" y="2205000"/>
            <a:ext cx="40417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odpowiadają za całościowe wsparcie beneficjentów, z którymi podpisały umowy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o dofinansowanie projektó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84807"/>
                </a:solidFill>
                <a:latin typeface="Calibri"/>
              </a:rPr>
              <a:t>PLAN DZIAŁAŃ KIW W OBSZARZE UPOWSZECHNIANIA I WŁĄCZANIA DO GŁÓWNEGO NURTU POLITYKI </a:t>
            </a:r>
            <a:br>
              <a:rPr sz="2000"/>
            </a:br>
            <a:r>
              <a:rPr b="1" lang="pl-PL" sz="2000" spc="-1" strike="noStrike">
                <a:solidFill>
                  <a:srgbClr val="984807"/>
                </a:solidFill>
                <a:latin typeface="Calibri"/>
              </a:rPr>
              <a:t>NA 2012 R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84807"/>
                </a:solidFill>
                <a:latin typeface="Calibri"/>
              </a:rPr>
              <a:t>Cel: Wspieranie działań w obszarze upowszechniania i włączania dotyczących projektów innowacyjnych i współpracy ponadnarodowej PO K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Działanie 1: zarządzanie projektami oraz produktami innowacyjnymi i współpracy ponadnarodow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Narzędzi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Identyfikacja projektów innowacyjnych i współpracy ponadnarodow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– „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aza fiszek projektowych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apa projektów innowacyjnych PO K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naliza jakościowa projektów innowacyjnych PO K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yłonienie klastrów projektowy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kładka na portalu KIW poświęcona projektom oraz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oduktom innowacyjnym oraz współpracy ponadnarodow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yszukiwarka projektów i produktó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dostępnianie wszystkich produktów osobom zainteresowany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Obraz 4" descr="MP900341413.JPG"/>
          <p:cNvPicPr/>
          <p:nvPr/>
        </p:nvPicPr>
        <p:blipFill>
          <a:blip r:embed="rId1"/>
          <a:stretch/>
        </p:blipFill>
        <p:spPr>
          <a:xfrm>
            <a:off x="6961320" y="3068640"/>
            <a:ext cx="21826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84807"/>
                </a:solidFill>
                <a:latin typeface="Calibri"/>
              </a:rPr>
              <a:t>PLAN DZIAŁAŃ KIW W OBSZARZE UPOWSZECHNIANIA I WŁĄCZANIA DO GŁÓWNEGO NURTU POLITYKI </a:t>
            </a:r>
            <a:br>
              <a:rPr sz="2000"/>
            </a:br>
            <a:r>
              <a:rPr b="1" lang="pl-PL" sz="2000" spc="-1" strike="noStrike">
                <a:solidFill>
                  <a:srgbClr val="984807"/>
                </a:solidFill>
                <a:latin typeface="Calibri"/>
              </a:rPr>
              <a:t>NA 2012 R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987280" y="981000"/>
            <a:ext cx="6156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Działanie 2: wsparcie upowszechniania produktów innowacyjnych oraz współpracy ponadnarodow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Narzędz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iuletyn KIW oraz inne publikacje tematycz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ezentowanie produktów/projektów podczas wydarzeń organizowanych i współorganizowanych przez KIW, w kraju i zagranicą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głaszanie produktów/projektów do przedsięwzięć inicjowanyc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ez inne niż KIW podmioty, w kraju i zagranicą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spółpraca z mediam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Działanie 3: Inicjatywy na rzecz włączania produktów do głównego nurtu polity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Narzędz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potkania na rzecz konkretnych projektów/klastrów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łatwianie kontaktów beneficjentów z decydentam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 pośrednictwem 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4" descr="MC900438451.JPG"/>
          <p:cNvPicPr/>
          <p:nvPr/>
        </p:nvPicPr>
        <p:blipFill>
          <a:blip r:embed="rId1"/>
          <a:stretch/>
        </p:blipFill>
        <p:spPr>
          <a:xfrm>
            <a:off x="179280" y="2060640"/>
            <a:ext cx="27036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84807"/>
                </a:solidFill>
                <a:latin typeface="Calibri"/>
              </a:rPr>
              <a:t>PLAN DZIAŁAŃ KIW W OBSZARZE UPOWSZECHNIANIA I WŁĄCZANIA DO GŁÓWNEGO NURTU POLITYKI </a:t>
            </a:r>
            <a:br>
              <a:rPr sz="2000"/>
            </a:br>
            <a:r>
              <a:rPr b="1" lang="pl-PL" sz="2000" spc="-1" strike="noStrike">
                <a:solidFill>
                  <a:srgbClr val="984807"/>
                </a:solidFill>
                <a:latin typeface="Calibri"/>
              </a:rPr>
              <a:t>NA 2012 R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Działanie 4: Budowanie potencjału IP/IP2/ST w obszarze upowszechniania i włączania oraz uświadamianie im ich roli w tych proces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Narzędz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pracowanie i udostępnienie narzędz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 wykorzystania przez IP/IP2/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rganizacja spotkań roboczych dla IP/IP2/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powszechnianie dobrych prakty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raz 3" descr="MP900390080.JPG"/>
          <p:cNvPicPr/>
          <p:nvPr/>
        </p:nvPicPr>
        <p:blipFill>
          <a:blip r:embed="rId1"/>
          <a:stretch/>
        </p:blipFill>
        <p:spPr>
          <a:xfrm>
            <a:off x="5257800" y="3284640"/>
            <a:ext cx="38862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84807"/>
                </a:solidFill>
                <a:latin typeface="Calibri"/>
              </a:rPr>
              <a:t>PLANOWANIE DZIAŁAŃ U I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11280" y="1052640"/>
          <a:ext cx="7993080" cy="4752720"/>
        </p:xfrm>
        <a:graphic>
          <a:graphicData uri="http://schemas.openxmlformats.org/drawingml/2006/table">
            <a:tbl>
              <a:tblPr/>
              <a:tblGrid>
                <a:gridCol w="2368440"/>
                <a:gridCol w="612720"/>
                <a:gridCol w="614520"/>
                <a:gridCol w="612720"/>
                <a:gridCol w="623880"/>
                <a:gridCol w="623880"/>
                <a:gridCol w="622440"/>
                <a:gridCol w="625320"/>
                <a:gridCol w="1289160"/>
              </a:tblGrid>
              <a:tr h="2016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tap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tap 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 projekc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1998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za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e5f1"/>
                    </a:solidFill>
                  </a:tcPr>
                </a:tc>
                <a:tc row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za 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e5f1"/>
                    </a:solidFill>
                  </a:tcPr>
                </a:tc>
                <a:tc row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za 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e5f1"/>
                    </a:solidFill>
                  </a:tcPr>
                </a:tc>
                <a:tc row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za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e5f1"/>
                    </a:solidFill>
                  </a:tcPr>
                </a:tc>
                <a:tc row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za 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e5f1"/>
                    </a:solidFill>
                  </a:tcPr>
                </a:tc>
                <a:tc row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za 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e5f1"/>
                    </a:solidFill>
                  </a:tcPr>
                </a:tc>
                <a:tc row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za I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e5f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9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Strategia wdrażan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0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rona internetowa IP/I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1998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blikacje IP/I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2016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argi Innowac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a Partnerskie 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minaria tematy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eci Tematyczne - upowszechnian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d99594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d99594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d99594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3891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nferencje, panele dyskusyj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d99594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d99594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d99594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upy Robocze w 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2016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ntakty z decydenta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2001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ntakty z media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2016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basadorzy produ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5824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za przedsięwzięć upowszechniających i włączając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ularz opisu produktu finaln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2016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rtyfikac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84807"/>
                </a:solidFill>
                <a:latin typeface="Calibri"/>
              </a:rPr>
              <a:t>MONITOROWANIE DZIAŁAŃ U I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984807"/>
                </a:solidFill>
                <a:uFillTx/>
                <a:latin typeface="Calibri"/>
                <a:ea typeface="Times New Roman"/>
              </a:rPr>
              <a:t>ELEMENTY MONITORING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adania w ramach upowszechniania i włączania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rzędzia wykorzystywane w procesie upowszechniania i włączania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czestnicy procesu upowszechniania i mainstreamingu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etody zastosowane w procesie upowszechniania i mainstreamingu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pływ działań upowszechniających i włączających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Efekty działań w procesie upowszechniania i mainstreaming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984807"/>
                </a:solidFill>
                <a:uFillTx/>
                <a:latin typeface="Calibri"/>
                <a:ea typeface="Times New Roman"/>
              </a:rPr>
              <a:t>NARZĘDZIA MONITORING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prawozdania beneficjentów (wewnętrzne oraz inne wynikające z system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drażania PO KL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Raporty z ewaluacji na poziomie projektów i priorytetów ze szczególnym uwzględnieniem projektów innowacyjnych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rotokoły/notatki z przeglądów okresowych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Część sprawozdawczą wniosków o płatność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Listy sprawdzające opracowane przez IP/IP2 na potrzeby monitorowania działań upowszechniających i włączających podejmowanych przez beneficjentów, jak i działań własnych IP/IP2 w tym zakresi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IP/IP2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beneficjent, IP/IP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KIW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IP/IP2, 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Łącznik prosty ze strzałką 4"/>
          <p:cNvCxnSpPr/>
          <p:nvPr/>
        </p:nvCxnSpPr>
        <p:spPr>
          <a:xfrm>
            <a:off x="3058920" y="5660640"/>
            <a:ext cx="2089800" cy="1080"/>
          </a:xfrm>
          <a:prstGeom prst="straightConnector1">
            <a:avLst/>
          </a:prstGeom>
          <a:ln w="93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98" name="Łącznik prosty ze strzałką 6"/>
          <p:cNvCxnSpPr/>
          <p:nvPr/>
        </p:nvCxnSpPr>
        <p:spPr>
          <a:xfrm>
            <a:off x="3276360" y="5949720"/>
            <a:ext cx="2159640" cy="1080"/>
          </a:xfrm>
          <a:prstGeom prst="straightConnector1">
            <a:avLst/>
          </a:prstGeom>
          <a:ln w="9360">
            <a:solidFill>
              <a:srgbClr val="984807"/>
            </a:solidFill>
            <a:miter/>
            <a:tailEnd len="med" type="arrow" w="med"/>
          </a:ln>
        </p:spPr>
      </p:cxnSp>
      <p:pic>
        <p:nvPicPr>
          <p:cNvPr id="99" name="Obraz 7" descr="MP900439410.JPG"/>
          <p:cNvPicPr/>
          <p:nvPr/>
        </p:nvPicPr>
        <p:blipFill>
          <a:blip r:embed="rId1"/>
          <a:stretch/>
        </p:blipFill>
        <p:spPr>
          <a:xfrm>
            <a:off x="7135920" y="981000"/>
            <a:ext cx="2008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84807"/>
                </a:solidFill>
                <a:latin typeface="Calibri"/>
              </a:rPr>
              <a:t>ZARZĄDZANIE INFORMACJAMI O PRODUKT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P/IP2 powinien zadbać o to, by posiadać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szystkie niezbędne informacje o produkta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inalnych (w tym instrukcje ich stosowani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aza produktów final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3" descr="MP910220868.JPG"/>
          <p:cNvPicPr/>
          <p:nvPr/>
        </p:nvPicPr>
        <p:blipFill>
          <a:blip r:embed="rId1"/>
          <a:stretch/>
        </p:blipFill>
        <p:spPr>
          <a:xfrm>
            <a:off x="5708520" y="1052640"/>
            <a:ext cx="343548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64436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84807"/>
                </a:solidFill>
                <a:latin typeface="Calibri"/>
                <a:ea typeface="Times New Roman"/>
              </a:rPr>
              <a:t>PRZYDATNE PUBLIKACJE I OPRACOWAN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powszechnianie i mainstreaming w projektach innowacyjnych Programu Operacyjnego Kapitał Ludz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orum Partnerskie oraz Targi innowacji. Narzędzia na rzecz upowszechniania i włączania produktów projektów innowacyjnych PO K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Jak pisać o Funduszach Europejskich?” - publikacja Ministerstwa Rozwoju Regionalneg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az 3" descr="MP900448273.JPG"/>
          <p:cNvPicPr/>
          <p:nvPr/>
        </p:nvPicPr>
        <p:blipFill>
          <a:blip r:embed="rId1"/>
          <a:stretch/>
        </p:blipFill>
        <p:spPr>
          <a:xfrm>
            <a:off x="5711760" y="3573360"/>
            <a:ext cx="343224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7" descr="MH900412400.JPG"/>
          <p:cNvPicPr/>
          <p:nvPr/>
        </p:nvPicPr>
        <p:blipFill>
          <a:blip r:embed="rId1"/>
          <a:stretch/>
        </p:blipFill>
        <p:spPr>
          <a:xfrm>
            <a:off x="6588000" y="3429000"/>
            <a:ext cx="2556000" cy="2556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35280" y="-360"/>
            <a:ext cx="5508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84807"/>
                </a:solidFill>
                <a:latin typeface="Calibri"/>
              </a:rPr>
              <a:t>KWESTIE OGÓ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9280" y="112500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alizacja działań upowszechniających i włączających jest przede wszystkim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bowiązkiem beneficjen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stytucje Pośredniczące/Instytucje Pośredniczące II stopni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spierają beneficjenta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realizacji działań upowszechniających i włączając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powszechnianie a mainstrea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ertykaln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ryzontal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mainstreaming praktyk)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mainstreaming polity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Łącznik prosty ze strzałką 4"/>
          <p:cNvCxnSpPr/>
          <p:nvPr/>
        </p:nvCxnSpPr>
        <p:spPr>
          <a:xfrm flipH="1">
            <a:off x="2987280" y="4508280"/>
            <a:ext cx="432720" cy="361080"/>
          </a:xfrm>
          <a:prstGeom prst="straightConnector1">
            <a:avLst/>
          </a:prstGeom>
          <a:ln w="93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8" name="Łącznik prosty ze strzałką 6"/>
          <p:cNvCxnSpPr/>
          <p:nvPr/>
        </p:nvCxnSpPr>
        <p:spPr>
          <a:xfrm>
            <a:off x="4140000" y="4508280"/>
            <a:ext cx="432360" cy="361080"/>
          </a:xfrm>
          <a:prstGeom prst="straightConnector1">
            <a:avLst/>
          </a:prstGeom>
          <a:ln w="9360">
            <a:solidFill>
              <a:srgbClr val="98480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tkanie współfinansowane ze środków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i Europejskiej w ramach Europejskiego Funduszu Społeczne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Obraz 4" descr="j0441350.png"/>
          <p:cNvPicPr/>
          <p:nvPr/>
        </p:nvPicPr>
        <p:blipFill>
          <a:blip r:embed="rId1"/>
          <a:stretch/>
        </p:blipFill>
        <p:spPr>
          <a:xfrm>
            <a:off x="3348000" y="1484280"/>
            <a:ext cx="2340000" cy="2340000"/>
          </a:xfrm>
          <a:prstGeom prst="rect">
            <a:avLst/>
          </a:prstGeom>
          <a:ln w="0">
            <a:noFill/>
          </a:ln>
        </p:spPr>
      </p:pic>
      <p:sp>
        <p:nvSpPr>
          <p:cNvPr id="108" name="Prostokąt 4"/>
          <p:cNvSpPr/>
          <p:nvPr/>
        </p:nvSpPr>
        <p:spPr>
          <a:xfrm>
            <a:off x="1187280" y="1557360"/>
            <a:ext cx="684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IĘKUJĘ ZA UWAG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nieszka Jarmuszyń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ajowa Instytucja Wspomaga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agnieszka.jarmuszynska@cpe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tel.: 22 378 31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84807"/>
                </a:solidFill>
                <a:latin typeface="Calibri"/>
              </a:rPr>
              <a:t>WARSZTATY – JAK PRACUJE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43360" indent="-243360">
              <a:lnSpc>
                <a:spcPct val="15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czestnicy dzielą się na 4 grupy: A, B, C, 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5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ażda grupa wybiera osobę, która będzie prezentowała na koniec warsztatów efekt pracy oraz osobę, która będzie spisywała ustalenia grupy na arkuszu (może to być jedna i ta sama osob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5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każdym z 4 stolików rozłożono arkusz z konkretnym temat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5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zas pracy nad jednym tematem nie może przekroczyć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20 minut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5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ażda grupa po zakończeniu pracy nad danym tematem przekazuje arkusz do następnego stoli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5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liki wymieniają się tematami do momentu, gdy każda grupa opracuje swoje stanowisko odnośnie do wszystkich 4 temat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5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 każdym stoliku obecny jest jeden przedstawiciel KI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raz 3" descr="MP900439389.JPG"/>
          <p:cNvPicPr/>
          <p:nvPr/>
        </p:nvPicPr>
        <p:blipFill>
          <a:blip r:embed="rId1"/>
          <a:stretch/>
        </p:blipFill>
        <p:spPr>
          <a:xfrm>
            <a:off x="5418000" y="404640"/>
            <a:ext cx="3726000" cy="5580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24000" y="-360"/>
            <a:ext cx="5219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84807"/>
                </a:solidFill>
                <a:latin typeface="Calibri"/>
              </a:rPr>
              <a:t>ROLA IP/IP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26920" y="1557360"/>
            <a:ext cx="749952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pieranie wszystkich projekt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ktywniejsze, zindywidualizowa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ejście do wybranych produkt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000" y="1125000"/>
            <a:ext cx="873000" cy="452628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7000"/>
          </a:bodyPr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Calibri"/>
                <a:ea typeface="Times New Roman"/>
              </a:rPr>
              <a:t>PODEJŚCIE  DWUTOR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760" indent="-2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raz 3" descr="MP900439370.JPG"/>
          <p:cNvPicPr/>
          <p:nvPr/>
        </p:nvPicPr>
        <p:blipFill>
          <a:blip r:embed="rId1"/>
          <a:stretch/>
        </p:blipFill>
        <p:spPr>
          <a:xfrm>
            <a:off x="7364520" y="2060640"/>
            <a:ext cx="1779480" cy="1189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62276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84807"/>
                </a:solidFill>
                <a:latin typeface="Calibri"/>
              </a:rPr>
              <a:t>ZAŁOŻENIA PODEJŚCIA DWUTOROW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9640" y="90756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dodatkowe, bardziej zindywidualizowane narzędzi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wspierające dla projektów o największym potencjale produktów do włączan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wybór produktów o największym potencjale w oparciu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o kryteria merytoryczn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 a także zapisy strategii wdrażania projektów innowacyjnyc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współpraca z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komórkami merytorycznym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P/IP2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dentyfikacja produktów o największym potencjale prowadzon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ykliczn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unkt „0”: zatwierdzenie strategii wdrażania przez IOK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potkanie z beneficjentam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pogłębienie i weryfikacja wiedzy na temat wybranych produktów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zasadność i poziom mainstreamingu polityk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(mainstreamingu wertykalnego) w odniesieniu do wybranych produktów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główne działania włączające powinny być podejmowane przez IP/IP2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po walidacji produktu finalnego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do czasu walidacj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wybrane produkty powinny być objęte szczególnym wsparciem I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opracowani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„planów włączeniowych”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poszczególnych wybranych projektów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podejmowanie zindywidualizowanych działań wspierających w odpowiedzi n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zgłoszenie beneficjent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marketingowe pod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jście do wdrażanych innowa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2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4" descr="MP900430729.JPG"/>
          <p:cNvPicPr/>
          <p:nvPr/>
        </p:nvPicPr>
        <p:blipFill>
          <a:blip r:embed="rId1"/>
          <a:stretch/>
        </p:blipFill>
        <p:spPr>
          <a:xfrm>
            <a:off x="5508720" y="1052640"/>
            <a:ext cx="3635280" cy="5111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84807"/>
                </a:solidFill>
                <a:latin typeface="Calibri"/>
              </a:rPr>
              <a:t>WSPARCIE IP/IP2 DLA WSZYSTKICH PROJEKT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9810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984807"/>
                </a:solidFill>
                <a:uFillTx/>
                <a:latin typeface="Calibri"/>
                <a:ea typeface="Times New Roman"/>
              </a:rPr>
              <a:t>UPOWSZECHNIA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argi Innowa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trona internetowa IP/IP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ublikacje IP/IP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ieci Tematycz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onferencje, panele dyskusyj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aza przedsięwzięć o charakterz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powszechniającym  („mapa upowszechniania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zór formularza opisu produktu finaln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84807"/>
                </a:solidFill>
                <a:latin typeface="Calibri"/>
              </a:rPr>
              <a:t>WSPARCIE IP/IP2 DLA WSZYSTKICH PROJEKT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984807"/>
                </a:solidFill>
                <a:uFillTx/>
                <a:latin typeface="Calibri"/>
                <a:ea typeface="Times New Roman"/>
              </a:rPr>
              <a:t>WŁĄCZA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ora Partnersk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któw innowacy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eminaria tematycz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aza przedsięwzięć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 charakterze włączający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az 3" descr="MP910220831.JPG"/>
          <p:cNvPicPr/>
          <p:nvPr/>
        </p:nvPicPr>
        <p:blipFill>
          <a:blip r:embed="rId1"/>
          <a:stretch/>
        </p:blipFill>
        <p:spPr>
          <a:xfrm>
            <a:off x="4427640" y="2060640"/>
            <a:ext cx="47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MP900390083.JPG"/>
          <p:cNvPicPr/>
          <p:nvPr/>
        </p:nvPicPr>
        <p:blipFill>
          <a:blip r:embed="rId1"/>
          <a:stretch/>
        </p:blipFill>
        <p:spPr>
          <a:xfrm>
            <a:off x="6534000" y="22050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84807"/>
                </a:solidFill>
                <a:latin typeface="Calibri"/>
              </a:rPr>
              <a:t>WSPARCIE IP/IP2 O NAJWIĘKSZYM POTENCJ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984807"/>
                </a:solidFill>
                <a:uFillTx/>
                <a:latin typeface="Calibri"/>
                <a:ea typeface="Times New Roman"/>
              </a:rPr>
              <a:t>WYBÓR PROJEKT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ktualność proponowanego rozwiązania w kontekście regionalnych strategii rozwoju/problemów społecz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zasadność planowanego w projekcie mainstreaming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ompleksowość i poprawność zaplanowanych przez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a w strategii wdrażania działań upowszechniający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 włączający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kuteczność proponowanego rozwiąz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ryginalność proponowanego rozwiązan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dniesienie do PIW EQU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az 3" descr="MP900439394.JPG"/>
          <p:cNvPicPr/>
          <p:nvPr/>
        </p:nvPicPr>
        <p:blipFill>
          <a:blip r:embed="rId1"/>
          <a:stretch/>
        </p:blipFill>
        <p:spPr>
          <a:xfrm>
            <a:off x="0" y="1268280"/>
            <a:ext cx="3124080" cy="4680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84807"/>
                </a:solidFill>
                <a:latin typeface="Calibri"/>
              </a:rPr>
              <a:t>WSPARCIE IP/IP2 O NAJWIĘKSZYM POTENCJ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24000" y="1197000"/>
            <a:ext cx="65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984807"/>
                </a:solidFill>
                <a:uFillTx/>
                <a:latin typeface="Calibri"/>
                <a:ea typeface="Times New Roman"/>
              </a:rPr>
              <a:t>WYBÓR PROJEKT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zykładowe źródła informacj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i o dofinansowanie projektu/fiszki projektow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opinie eksperckie dotyczące strategii wdrażania projektów i/lub strategie wdrażan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opinie eksperckie dotyczące produktu finalnego przedłożonego do walidacji i/lub opisy produktu finalneg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raporty z ewaluacji zewnętrznej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notatki z przeglądów okresowych ocenianych projektów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protokoły z kontroli projektu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zapytania pisemne/telefony/rozmowy/spotkania z Beneficjentami ocenianych projektów uszczegóławiające posiadane informacje nt. produktu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opracowane przez IP/IP2 ankiety samooceny wypełniane przez beneficjentów, odnoszące się do kryteriów, które IP/IP2 wybierze do oceny projektów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84807"/>
                </a:solidFill>
                <a:latin typeface="Calibri"/>
              </a:rPr>
              <a:t>WSPARCIE IP/IP2 O NAJWIĘKSZYM POTENCJ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347640" y="1196640"/>
            <a:ext cx="534996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984807"/>
                </a:solidFill>
                <a:uFillTx/>
                <a:latin typeface="Calibri"/>
                <a:ea typeface="Times New Roman"/>
              </a:rPr>
              <a:t>UPOWSZECHNIAN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Narzędzia analogiczne jak w przypadku wsparcia oferowanego dla wszystkich projektów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984807"/>
                </a:solidFill>
                <a:uFillTx/>
                <a:latin typeface="Calibri"/>
                <a:ea typeface="Times New Roman"/>
              </a:rPr>
              <a:t>WŁĄCZAN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Grupy Robocze ds. mainstreamingu w ramach Sieci Tematyczny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akty z decydentam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Ambasadorzy produkt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ertyfikacja proponowanych rozwiąza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Obraz 3" descr="MP900439369.JPG"/>
          <p:cNvPicPr/>
          <p:nvPr/>
        </p:nvPicPr>
        <p:blipFill>
          <a:blip r:embed="rId1"/>
          <a:stretch/>
        </p:blipFill>
        <p:spPr>
          <a:xfrm>
            <a:off x="0" y="907920"/>
            <a:ext cx="3365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2-10-09T12:50:48Z</dcterms:modified>
  <cp:revision>50</cp:revision>
  <dc:subject/>
  <dc:title>Slajd 1</dc:title>
</cp:coreProperties>
</file>